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B745-A26C-47A9-8458-9BEFD0808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159F-0107-47B8-ABA2-7C558216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EA90-01A3-4782-A575-664C0E1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6187-F27C-468E-A3F7-C79557BCF6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9394-B024-437A-974E-8F3FB9D7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65EC-CF6E-4767-8827-146041D1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24E8-AFBF-4D82-B478-F62B1E6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ADA6-AB15-49E3-8ED5-C2F904C1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28036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9EF5-8C69-4025-B214-E5F70F67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54C3-AC1F-4782-8ED4-843EA275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E640-6212-476A-964A-0963485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912E-0921-45E8-8CD4-EC7B2E21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237000"/>
            <a:ext cx="33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www.worldorphanweek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F0E-F762-4C6F-95BE-1CDFF460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51640" y="6237360"/>
            <a:ext cx="3000240" cy="479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1620720" cy="103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23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You can help make a difference</a:t>
            </a:r>
            <a:endParaRPr b="0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3888000" cy="263052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95280" y="765000"/>
            <a:ext cx="82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ff"/>
                </a:solidFill>
                <a:latin typeface="Arial"/>
              </a:rPr>
              <a:t>World Orphan Wee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3213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00ccff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1508040" cy="22608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023840"/>
            <a:ext cx="2665440" cy="17924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76360" y="4054320"/>
            <a:ext cx="2367000" cy="15782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435640" y="4149720"/>
            <a:ext cx="2665440" cy="17762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What is ‘WOW’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ld Orphan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ime to WOW friends, teachers and family with fun activities whilst raising vital awareness &amp; funds for SOS Children’s Villages</a:t>
            </a:r>
            <a:endParaRPr b="0" lang="en-US" sz="2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95920" cy="292104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ccff"/>
                </a:solidFill>
                <a:latin typeface="Arial"/>
              </a:rPr>
              <a:t>SOS – what we do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330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mily based approach to long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 care for children who have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orphaned or abandoned a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sult of poverty, disease, war, famine or natural disaster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cared for by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S mothers in family home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unique children’s village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25 countries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S is the world’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st orphan charity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038840" cy="26892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How SOS works: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OS Children’s Village has a nursery school, primary school and medical centre. Many also have secondary schools, vocational centres and social centres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acilities are open to the wider community and provide outreach support to disadvantaged families, and sometimes emergency relief following natural disasters, such as the Pakistan earthquake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3095640" cy="206532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90600" cy="20602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SOS helps children like John: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2040" y="2063880"/>
            <a:ext cx="3603600" cy="32637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356000" y="1341360"/>
            <a:ext cx="4465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year, John was found abandoned, walking along a road, in rural Ghana. He was 6 years old but looked half his age, as he was extremely malnour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was taken to an SOS Children’s Village where he is now part of a loving family, cared for by his SOS mother and loved by his SOS brothers and sis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has grown in confidence and now attends school. He is a happy boy with a bright future ahead of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How you can be part of WOW!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989000"/>
            <a:ext cx="741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570320"/>
            <a:ext cx="820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Orphan Week is a wonderful opportunity to develop international links with our world wide work, gain an insight into other cultures and feel part of the global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can be achieved in a number of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nsor an SOS Children’s Village &amp; receive annual  news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how children live in Brazil, South Africa, Ghana, Vietn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Belarus using our downloadable educational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your general knowledge with our wikipedia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stand the issues facing children in the develo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by watching child interviews on our WOW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3716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How can you raise vital funds?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fun ways to do this, here are just a few ideas: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non-uniform day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a coffee morning or quiz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themed day, with an international flavour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a sponsored spell or penalty shoot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rtwork and hold an exhibition – encourage parents 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uy your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86120" cy="384948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ff"/>
                </a:solidFill>
                <a:latin typeface="Arial"/>
              </a:rPr>
              <a:t>More fundraising ideas…</a:t>
            </a:r>
            <a:endParaRPr b="0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the whole school in a sponsored virtual challenge: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k the Wall of China’ by doing circuits of the playground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m Lake Malawi’ by doing lengths of the local pool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 Mount Kilimanjaro by walking up the school steps.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038480" cy="36324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5640" y="5445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GB" sz="2500" spc="-1" strike="noStrike">
                <a:solidFill>
                  <a:srgbClr val="00ccff"/>
                </a:solidFill>
                <a:latin typeface="Arial"/>
              </a:rPr>
              <a:t>Anything is possible if everyone plays their par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Your Help is Needed!</a:t>
            </a:r>
            <a:endParaRPr b="0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ever you choose to do in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Orphan Week, your help is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and your efforts to raise money and funds are much appreciated.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ore orphaned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bandoned children,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John, all over the world. </a:t>
            </a: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an help give them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family home, food,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ducation and a 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ighter future!</a:t>
            </a:r>
            <a:endParaRPr b="0" lang="en-US" sz="25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27687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20:12:19Z</dcterms:created>
  <dc:creator>Graham Gordon</dc:creator>
  <dc:description/>
  <dc:language>en-US</dc:language>
  <cp:lastModifiedBy>Caroline Baker</cp:lastModifiedBy>
  <dcterms:modified xsi:type="dcterms:W3CDTF">2006-08-15T09:35:35Z</dcterms:modified>
  <cp:revision>43</cp:revision>
  <dc:subject/>
  <dc:title>SOS Children’s Villages UK</dc:title>
</cp:coreProperties>
</file>